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91F-E881-4CDA-A4E7-6577FB9A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968-5B69-4D0B-BF63-0ED50236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A4C07-A2E7-4DCB-90C5-0162FC6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CDAB4-5232-4D0E-844E-C2476E6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9F38D-F1DC-40C6-9E22-F4C2F2C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FCDB5-0AFE-4035-B3B3-12B63EC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B9A51-A058-4F48-8C47-7A77DCC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7A60-CEA7-46AF-85BF-84077C2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E4151-6108-4987-9EE5-91F0423B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8302A-F6B0-4F6E-863C-0ED11F9C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AF3CE-4648-4695-A11B-FFEA89D5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759-D6B6-43BC-8A2D-06AC6616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B11-568E-4501-8123-97D8ACA5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FF3-F1E4-4F38-B158-1CE9271D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B75CA-FAE5-455B-9D34-CE35446C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0F815-AAA5-4A67-A775-E7317C6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141F7-9859-4577-ADE0-1507DFC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FAFE4-FD8F-4E70-8C8C-FF7FCAB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E0B8C-221F-47BB-A505-61D88D5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59548-B225-49FB-851E-654E5E3D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9A463-B0F2-4B7B-883C-BF7B927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3211-7DDE-45BB-AD93-DF6B27B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A2EBC-5B29-4A0A-843B-0143154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118CE-255A-4503-AFF4-0A4899F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762B1-C46A-4477-921C-7844B7B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B9C17-670B-4319-8664-52C63709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2E4C7-48A0-46CE-8C12-EA1A8D50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BB2B2E-5CE2-401F-BF87-3A36C6B6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7F52C3-4AA9-4183-861B-6DB468F1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B69AE1-A383-4009-8806-412B074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F33987-C20B-4F4D-8117-76EA41B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E4DF57-8D21-4C35-957E-72E71605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48F-8006-4A60-B77E-C26C5058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FE318D-87A1-4DA4-A0F0-B8CF32E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59186B-D627-483F-AB1C-6769D12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3B55E0-6EB3-41AF-8B0D-87A0C5B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989B09-17B4-4AB1-84A4-7699A6A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DD7C6B-16F7-4AD6-904F-CB5B4A1A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8E63C9-375B-46B9-8E10-E68A781E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8C5DC9-86B3-4874-ADCE-3B8707EC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4A3D3B-38BB-4925-BEE7-183C76D0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2636A4-BF3B-4927-8D97-E3A0BEA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D7B7C8-A7D2-427D-9001-66221ED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799-51D8-4192-9065-D4F8D0BA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FEE07F-3AF6-4358-8A98-6B0C64BA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11A598-B3ED-4B10-B964-892229E7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8ECCC4-6687-4C92-89AA-C44A0F2D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EDE303-8BEA-4872-BEB0-2AB450AB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505CAD-67A0-43E3-A06C-8C5AEB6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5B5A2C-6F53-471F-9CB4-568B742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19890F-E144-4388-889D-9CA5B30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5FAA4A-9AD8-460B-A3B0-8B3F9529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D2230C-36A6-4FF0-8D54-40791CDF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FBA689-E668-4585-9CFE-057DED32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CFE-1046-4F68-9973-2C80DC8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2FF7C0-2D91-40FB-9920-C4979204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E9D089-B125-4B61-9F8C-AB824B7B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BD9514-0108-4E5E-9EA2-7BDEBA4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DD0982-FF8C-4E72-9F6C-C956634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B72B2C-909A-4A4D-8BA4-6A21611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B7D939-3E2C-4C3F-B2CC-1E9C99D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7AD8A8-ED09-4934-B873-94BFF7C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ED6899-60B7-4E85-BD8C-BD5C28D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3D062A-8C4D-455B-B18F-574C8A69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3ED818-6094-4D79-AEE9-73844052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794-9614-4E5C-85B4-35AB9EC6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452C39-B7A3-47BB-8175-D3EF389A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C8CB-FC01-4B69-9B27-ED4EAA1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55E-2913-44EB-9B88-5D856137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E19B-545D-48ED-B81E-03C6F278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9CA-380E-42DA-8F58-3DDC0BA8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A37B-361C-4370-A30D-1DB284E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AB12-66E5-4C26-A462-04F13468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47B-E382-452C-94CF-C4B4CE63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ADCC-414F-40CB-884F-C49947CF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F2CB-C7F5-409E-9777-A435FDA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3696-0142-4754-8285-D73301A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3B07-8CE9-4D38-B4D9-28561D1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5EA7-B9F7-403F-A217-FA93BE26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02E-4D17-4008-9127-86B96B1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42C9-2BDA-4F8E-988D-72897151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FC15-2F04-4632-BFAB-FFDC6F8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1F47-EFF4-48B3-9A3C-FB9A1A0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FEF7-A6F6-41F5-B388-F75B810F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CBA8-702D-4886-9556-5820D548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5514-5D4A-4938-AE43-8CE03A43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93B9-2913-4097-98C4-9D8F48D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2CB7-A1B3-4BDC-BA67-A1920FEB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6ADA-D773-4F49-A853-06130235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DA48-867D-4AB0-B7C5-E364A34D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BAD-3B9F-472E-B6F3-DE01DA6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C43E-07B3-453E-BF48-CBF91D6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F041-D742-44B0-BBEF-F283B7B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0CAF-BA71-46A0-90B7-064AB26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C1D6-8F3A-41BE-A318-206EF82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4004-1975-40B5-A1DA-F0B060A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12B8-2AF8-4CAC-B5AF-21D19E60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8DC0-C6D4-45F9-A9D2-2517A8A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F95A-DA63-441B-85CF-52ECCA7F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DCCF-CD4D-4D49-8520-2EFDFC58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0EBB-A8E2-4FEA-9885-678139DA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DD9-2D08-4763-BCE6-C4AD8EA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E24E-C82D-42A7-A8C7-4EA6C78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D5FEC-B4A8-4DE5-A4DE-238A32A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D315B-EA91-4786-9A9A-F3BFC8B3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DA16-2D85-42E0-BE3C-2C446E8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45273-9EA5-446F-A6C0-40115F10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F360-1B62-4BE5-8DE0-E4AA4D1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7C75-F290-4DD5-91FF-8BA634C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71A4-4F12-41CC-9F34-9583538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1F3D-B274-403A-AB2C-943A798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6566-068D-4C36-B920-21D1628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6A7-6B44-42BB-A7B4-98A7B86D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9D33-8FF0-44DE-AFAE-043AC018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6A77-7AF0-4C86-BB75-635B0AC5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44D6-B71C-4C17-94C7-D8C32BB4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D1FC-7BD8-4329-BA47-C368B61B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CEB8-8172-425C-AD53-B327ADE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5BAAC-2DCE-48B9-8821-F481CD7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DFA4-81DC-4556-961C-F8F58188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9053-604C-4658-853B-4A6B143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4EBB-70A0-4940-B7C4-5F29677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9D275-9F04-4F5E-A7B4-146B585D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4B6-4D3B-4D9A-B531-B41A887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2F8B9-D9E3-41CC-85CE-13A59D2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BBEAF-8842-4ED7-8F7E-B62F0C56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73CE-AA1E-4FC9-82B6-F6B00068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752DF-70A7-43E5-9273-1F12856F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D319-AA61-486F-9B8D-B91FCAF6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E0C9-15AD-4A48-B14D-542E260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88B0-6B01-4A76-88DC-192308C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A50A-390D-4118-8079-E937E6B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3DCA-6EC2-48CC-A2E2-DCA00C03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F743-8CE0-4CF6-9311-D3DB1BA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9A7-4618-4469-8524-7C9895A5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366C-A39B-4D97-AB72-FA7E2378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9F48-F992-40CC-8587-12F390AA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7B4F-2BF6-4653-99C9-833B044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760D-582B-419C-BA71-F2D4D78D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2B64-9BE1-45AF-B351-23350A3D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D23D6-4165-44CA-A223-16503C5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64C0-934F-4775-84DD-D19D853E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3588-D7C7-431D-AA0D-5C4EC83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114BC-4EEE-4D31-883E-37F119A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15B5C-49E9-47B2-9C01-0F7219C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2DE-7C68-46FC-9CCA-DF4C7A7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9D882-44E5-4B67-9B80-510548E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6FE2-F9F9-487A-9FAE-2FE137C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E73B6-D655-4C80-B2FE-0E915A9C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008B-07DD-40A4-A12E-80D955A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97AED-79D4-4E5D-98B7-6F9C282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E01AE-D390-441B-BF95-1BF73AA4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DE51B-CAD0-4164-9C4C-75067EC9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DD6E7-C66B-47A1-AE61-7ACE8597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3178E-F36B-4CD4-9756-B5C5180C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151CB-5346-482B-880A-FD7FA04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A61EE-9DC8-45AC-AA7F-9F8DA8CCBCFC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2995B-C4EE-4C81-908F-03A5278FFD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A03B4-6C6A-4EDF-A21D-3300A2BD7574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E1064-A259-4301-B668-B9941B879F41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37536-E11F-48F1-8C58-F7E6AC82291F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B5285-C0F0-401F-B8E8-10B6B6CDAA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47EDA-B905-475F-95C6-3B715064039B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72E8F-42C8-41CD-A268-E596384BBA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5E91A-4D0A-4A81-815B-5782F04908FC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43B78-184C-4E06-8249-3588D5BF5C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0CF26-FA99-4811-88B3-02DBAC306869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6B64C-D35F-41E1-AF6A-BE2463CFD5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4842C-4848-43EB-8722-0910FFFEDDBB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28F7C-C777-4E47-8009-44CACF5856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E7B03-72C2-43BF-8C0D-EA12C33B1B07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66225-C0A9-4AD8-A3FF-4E1EB74B86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83E87-D800-41A7-B778-142CDF00018C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BD98F-ADCC-4A44-94B3-1672654544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FA8F2-05B8-42CA-AFB4-2C8C36D16D50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3BD65-AC76-4A67-BC76-726DACF5C7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3D342-120D-4358-8038-234F827B108D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CBEED-3284-4279-A4FA-1ABA94B7E3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9E960-DEBE-43DE-B601-78C0B3189EF9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59505-2835-426A-B750-A080EA8A48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CD323-02AC-4C2E-86A1-531C166FF8E9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4A9E6-1F58-4FEC-A6A9-F97C844439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BC7FE-B7FE-48E3-AA73-73A0D4339BAF}" type="datetime">
              <a:rPr b="0" lang="en-US" sz="1000" spc="-1" strike="noStrike">
                <a:solidFill>
                  <a:srgbClr val="404040"/>
                </a:solidFill>
                <a:latin typeface="Calibri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DDA44-C2A7-4294-970F-6A8F01DBFC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f you give a teacher a mentor…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836640" y="3787920"/>
            <a:ext cx="8307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ction  in Whitefish Ba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he may ask for anoth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           Are you my mentor too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libri"/>
              </a:rPr>
              <a:t>Not exactly—but in Whitefish Bay you may be assigned two colleagues who support you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entor—A formally trained collaborative colleague who works with you to advance your standards based teaching practic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ROC  Resource Orientation Colleague- A natural grade level or curricular partner who eases you in to the Building Culture, Procedures, Curriculum and other firsts such as grading and conferen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7280"/>
            <a:ext cx="830916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Mento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Listens to you at  “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What’s Working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” Meetings  and uses a Collaborative Assessment Log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AL)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to record what’s working and your choice of data for the mentor to look for when observing a lesson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lps you reflect on the  </a:t>
            </a:r>
            <a:r>
              <a:rPr b="0" i="1" lang="en-US" sz="1800" spc="-1" strike="noStrike">
                <a:solidFill>
                  <a:srgbClr val="404040"/>
                </a:solidFill>
                <a:latin typeface="Calibri"/>
              </a:rPr>
              <a:t>Continuum of Teacher Developmen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to select areas for growth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aborates with you at  Half-Day 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lease Workshops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o process data on Assessment and Differenti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artners with you at Induction Program Even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n Distric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At SEWNTP Consortium Sites-Cardinal Stritch Main Campus or City Cente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ROC 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Links you to building and grade level culture and procedur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lans curriculum with you as need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nnects you to resources and colleagu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rtners with your mentor to coordinate suppor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s your Oracle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fferentiation-Not just good for kids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15440" y="3225960"/>
            <a:ext cx="8309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It’s best practice for mentoring too!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ifferentiated Mentoring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17240" y="2770200"/>
            <a:ext cx="384012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263b86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263b86"/>
                </a:solidFill>
                <a:latin typeface="Calibri"/>
              </a:rPr>
              <a:t>Initial Educator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  Two Year Program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teacher in his or her PDP Reflection Yea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52920" y="2770200"/>
            <a:ext cx="4160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3b86"/>
                </a:solidFill>
                <a:latin typeface="Calibri"/>
              </a:rPr>
              <a:t>Experienced Educator</a:t>
            </a:r>
            <a:r>
              <a:rPr b="0" lang="en-US" sz="3400" spc="-1" strike="noStrike">
                <a:solidFill>
                  <a:srgbClr val="404040"/>
                </a:solidFill>
                <a:latin typeface="Calibri"/>
              </a:rPr>
              <a:t> One Year Program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Calibri"/>
              </a:rPr>
              <a:t>A teacher with a professional license or  implementing an approved PDP goal</a:t>
            </a: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0280" y="15354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tor Support in Year One is Differentiated Too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724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b6f2"/>
                </a:solidFill>
                <a:latin typeface="Calibri"/>
              </a:rPr>
              <a:t>IE in Reflection Yea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1724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llaborates with you to complete 4 observation protocol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ttends 2 SEWNTP COPS (Community of Practice Seminar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ttends  WFB Workshops with you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rects you to PDP Suppor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7332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b6f2"/>
                </a:solidFill>
                <a:latin typeface="Calibri"/>
              </a:rPr>
              <a:t>Experienced Educator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87332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Collaborates with you to complete 2 observation protocol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May attend 2 SEWNTP Seminars with you-Urban Education or Literacy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Attends WFB Workshops with you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</a:rPr>
              <a:t>Directs you to PDP Support as needed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9280" y="177444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hitefish Bay new teachers are “caught” between a Roc and a…Mentor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17240" y="2031840"/>
            <a:ext cx="38401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b6f2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17240" y="2998440"/>
            <a:ext cx="384012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rengths Ba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andards Ba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New Teacher-Direct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Non-Evalu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i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nfidenti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73320" y="2031840"/>
            <a:ext cx="384012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6b6f2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 rot="10800000">
            <a:off x="-3555720" y="3789360"/>
            <a:ext cx="1049400" cy="3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873680" y="2998800"/>
            <a:ext cx="38401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38:00Z</dcterms:created>
  <dc:creator>Mary Cieslewicz</dc:creator>
  <dc:description/>
  <dc:language>en-US</dc:language>
  <cp:lastModifiedBy>Whitefish Bay Schools</cp:lastModifiedBy>
  <dcterms:modified xsi:type="dcterms:W3CDTF">2013-08-22T22:12:19Z</dcterms:modified>
  <cp:revision>19</cp:revision>
  <dc:subject/>
  <dc:title>If you give a teacher a mentor..</dc:title>
</cp:coreProperties>
</file>